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C792-6364-4753-89DA-62B733449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82A6-90C1-4B09-BB0C-BEE5DCCC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F10F-E35E-40E6-B8EC-EA50A41C7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CB11-A0ED-4568-8560-C282D4693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9037-054A-47FA-9BFF-DEBC77165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213C-6920-4616-B825-597D932A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D1EB-E329-4311-8D3E-2175614A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21DC-D750-4B04-BED2-85494E8B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89F7-7CBF-4005-938B-1AE31E62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9B8D-3103-48C0-B62E-313A142F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2040-2477-48CF-B8B5-EFB73046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9994-4F47-41B6-A021-FD2D50B0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EF68-0D09-42DD-A90C-298E423B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3960-26A8-494E-B44D-2A9A3109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D516-C0C3-4133-A3B5-0D42B28A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734A-A1B4-48E0-8B8C-080729903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8C1F-C170-477C-9088-993249DAB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3C2B-7AF8-4CF7-841A-C2958135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C3C6-CF48-41E7-9A1E-DBAD31A8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59D2-23F1-4DCC-8FA6-1F0031E7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62B1-E6A2-49A0-98BB-1ADB8298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6582-061F-45C4-BF4D-4D582791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93FE-140D-4221-941B-9A02A0A1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4D06-2FE8-4B19-99D9-E8560597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AC3F-E729-4B42-9A99-893516315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C6A9-B55B-4CA7-A3B6-754CF980EF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ТОВАРНЫЕ ПОТЕР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Picture 4" descr="grizyni33"/>
          <p:cNvPicPr/>
          <p:nvPr/>
        </p:nvPicPr>
        <p:blipFill>
          <a:blip r:embed="rId1"/>
          <a:stretch/>
        </p:blipFill>
        <p:spPr>
          <a:xfrm>
            <a:off x="1371600" y="1447920"/>
            <a:ext cx="624852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Правила списания товарных потерь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Нормируемы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товарные потери (естественная убыль) списывают только, по итогам инвентаризации обнаружена недостача. Естественная убыль списывается за счёт предприят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Актируемые (предреализационные)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потери списываются с материально-ответственного лица по учетным ценам, также в момент инвентаризаци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Технология списания качественных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товарных потерь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Прямоугольник 5"/>
          <p:cNvSpPr/>
          <p:nvPr/>
        </p:nvSpPr>
        <p:spPr>
          <a:xfrm>
            <a:off x="1523880" y="914400"/>
            <a:ext cx="61722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Создается комиссия (односторонняя или двухсторонняя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7" name="Прямая со стрелкой 7"/>
          <p:cNvCxnSpPr/>
          <p:nvPr/>
        </p:nvCxnSpPr>
        <p:spPr>
          <a:xfrm flipH="1">
            <a:off x="4570200" y="1525680"/>
            <a:ext cx="3600" cy="305280"/>
          </a:xfrm>
          <a:prstGeom prst="straightConnector1">
            <a:avLst/>
          </a:prstGeom>
          <a:ln w="2232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58" name="Прямоугольник 8"/>
          <p:cNvSpPr/>
          <p:nvPr/>
        </p:nvSpPr>
        <p:spPr>
          <a:xfrm>
            <a:off x="2971800" y="1905120"/>
            <a:ext cx="3200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Определяют количе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Прямая со стрелкой 10"/>
          <p:cNvCxnSpPr>
            <a:stCxn id="158" idx="2"/>
          </p:cNvCxnSpPr>
          <p:nvPr/>
        </p:nvCxnSpPr>
        <p:spPr>
          <a:xfrm>
            <a:off x="4571640" y="2374560"/>
            <a:ext cx="1080" cy="36900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0" name="Прямоугольник 11"/>
          <p:cNvSpPr/>
          <p:nvPr/>
        </p:nvSpPr>
        <p:spPr>
          <a:xfrm>
            <a:off x="685800" y="2743200"/>
            <a:ext cx="74674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Документальное оформление товарных потерь (составление актов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1" name="Прямая со стрелкой 17"/>
          <p:cNvCxnSpPr/>
          <p:nvPr/>
        </p:nvCxnSpPr>
        <p:spPr>
          <a:xfrm flipH="1">
            <a:off x="4571640" y="3200040"/>
            <a:ext cx="2160" cy="30564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2" name="Прямоугольник 18"/>
          <p:cNvSpPr/>
          <p:nvPr/>
        </p:nvSpPr>
        <p:spPr>
          <a:xfrm>
            <a:off x="3048120" y="3581280"/>
            <a:ext cx="320040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Сумму товарных потерь списывают за счет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Прямая со стрелкой 20"/>
          <p:cNvCxnSpPr/>
          <p:nvPr/>
        </p:nvCxnSpPr>
        <p:spPr>
          <a:xfrm flipH="1">
            <a:off x="2133360" y="3961440"/>
            <a:ext cx="838800" cy="15300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4" name="Овал 21"/>
          <p:cNvSpPr/>
          <p:nvPr/>
        </p:nvSpPr>
        <p:spPr>
          <a:xfrm>
            <a:off x="228600" y="3962520"/>
            <a:ext cx="2209680" cy="99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Виновных ли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5" name="Прямая со стрелкой 27"/>
          <p:cNvCxnSpPr/>
          <p:nvPr/>
        </p:nvCxnSpPr>
        <p:spPr>
          <a:xfrm>
            <a:off x="6324120" y="3885840"/>
            <a:ext cx="762840" cy="15300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6" name="Овал 28"/>
          <p:cNvSpPr/>
          <p:nvPr/>
        </p:nvSpPr>
        <p:spPr>
          <a:xfrm>
            <a:off x="6858000" y="3962520"/>
            <a:ext cx="2133720" cy="761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Прибыли  предприят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7" name="Прямая со стрелкой 30"/>
          <p:cNvCxnSpPr/>
          <p:nvPr/>
        </p:nvCxnSpPr>
        <p:spPr>
          <a:xfrm flipH="1">
            <a:off x="4571640" y="4266720"/>
            <a:ext cx="2160" cy="38196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8" name="Овал 31"/>
          <p:cNvSpPr/>
          <p:nvPr/>
        </p:nvSpPr>
        <p:spPr>
          <a:xfrm>
            <a:off x="3429000" y="4648320"/>
            <a:ext cx="2514600" cy="685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Поставщ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Прямоугольник 32"/>
          <p:cNvSpPr/>
          <p:nvPr/>
        </p:nvSpPr>
        <p:spPr>
          <a:xfrm>
            <a:off x="2895480" y="5715000"/>
            <a:ext cx="38102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Утверждение актов руководителем предприят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0" name="Прямая со стрелкой 34"/>
          <p:cNvCxnSpPr/>
          <p:nvPr/>
        </p:nvCxnSpPr>
        <p:spPr>
          <a:xfrm flipH="1">
            <a:off x="4570200" y="5411520"/>
            <a:ext cx="3600" cy="22932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cxnSp>
        <p:nvCxnSpPr>
          <p:cNvPr id="171" name="Прямая со стрелкой 36"/>
          <p:cNvCxnSpPr/>
          <p:nvPr/>
        </p:nvCxnSpPr>
        <p:spPr>
          <a:xfrm>
            <a:off x="1599840" y="5029200"/>
            <a:ext cx="1143720" cy="91512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cxnSp>
        <p:nvCxnSpPr>
          <p:cNvPr id="172" name="Прямая со стрелкой 38"/>
          <p:cNvCxnSpPr/>
          <p:nvPr/>
        </p:nvCxnSpPr>
        <p:spPr>
          <a:xfrm flipH="1">
            <a:off x="6705360" y="4799520"/>
            <a:ext cx="1296000" cy="122004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зникают пр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ранспортировк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Хран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одаже товар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 небрежном обращ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5" descr="xin_d100e666315e466aba3119b43941af1a"/>
          <p:cNvPicPr/>
          <p:nvPr/>
        </p:nvPicPr>
        <p:blipFill>
          <a:blip r:embed="rId1"/>
          <a:stretch/>
        </p:blipFill>
        <p:spPr>
          <a:xfrm>
            <a:off x="3581280" y="236232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253"/>
          <p:cNvPicPr/>
          <p:nvPr/>
        </p:nvPicPr>
        <p:blipFill>
          <a:blip r:embed="rId2"/>
          <a:stretch/>
        </p:blipFill>
        <p:spPr>
          <a:xfrm>
            <a:off x="3581280" y="228600"/>
            <a:ext cx="2514600" cy="1371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1CAEUDH8WCA1N275FCAAMNHUKCAPCRK3NCA5ED7DQCA2QE62ECA97R4KTCAN9FVSJCAQNF17ECAX1DNTQCAB9XL8VCAOPO691CA9CIVHMCABV1E68CA3I8O34CAMFDT3WCAIMD0WLCARF3DE9CAT6JAQ4CAU5J4D2"/>
          <p:cNvPicPr/>
          <p:nvPr/>
        </p:nvPicPr>
        <p:blipFill>
          <a:blip r:embed="rId3"/>
          <a:stretch/>
        </p:blipFill>
        <p:spPr>
          <a:xfrm>
            <a:off x="6095880" y="990720"/>
            <a:ext cx="2819520" cy="1904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"/>
          <p:cNvPicPr/>
          <p:nvPr/>
        </p:nvPicPr>
        <p:blipFill>
          <a:blip r:embed="rId4"/>
          <a:stretch/>
        </p:blipFill>
        <p:spPr>
          <a:xfrm>
            <a:off x="5181480" y="4191120"/>
            <a:ext cx="396252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КЛАССИФИКАЦИЯ ТОВАРНЫХ ПОТЕРЬ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оварные потер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Материальные потер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званные частичной                            вызванные частичной или полн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ли полной утратой                               утратой стоимостных характерист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личественных или                              в денежном выражен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чественных характерист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овара в нат.выражен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кг,банки,бутылки,шт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4" descr="CCAD24ZJTCAD4236VCAHGK0XECA0PP5B1CAGSUX39CANEU0WYCAR1BTSXCA18AQ46CA2BTRVOCAZ8FL1QCAN8NRF8CA6Q59Q1CAQD1D73CAZ4C1ONCA6UCURRCAE7UF3ICAD4QN2TCAVPCVAHCAX2B0YLCAKJSKRE"/>
          <p:cNvPicPr/>
          <p:nvPr/>
        </p:nvPicPr>
        <p:blipFill>
          <a:blip r:embed="rId1"/>
          <a:stretch/>
        </p:blipFill>
        <p:spPr>
          <a:xfrm>
            <a:off x="152280" y="3505320"/>
            <a:ext cx="3733920" cy="3352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Деньги для расжигания огня"/>
          <p:cNvPicPr/>
          <p:nvPr/>
        </p:nvPicPr>
        <p:blipFill>
          <a:blip r:embed="rId2"/>
          <a:stretch/>
        </p:blipFill>
        <p:spPr>
          <a:xfrm>
            <a:off x="3962520" y="4191120"/>
            <a:ext cx="4876560" cy="2666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3952800" y="2286000"/>
            <a:ext cx="488628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Товарные потери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Количественные</a:t>
            </a:r>
            <a:br>
              <a:rPr sz="28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рмируемые - эти потери неизбежны, но их можно снизить благодаря строгому контролю за сохранением, подготовки товара к продаже, аккуратному отношению к товарно - материальным ценностя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5181480" y="762120"/>
            <a:ext cx="36576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Качествен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ктируемые - в отличие от количественных, списываются не по нормам, а по фактам возникновения – на основании акт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КОЛИЧЕСТВЕННЫЕ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тественная                        Предреализацион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быль                                                потер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ушка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злив                                 ликвидные                 неликвидн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пыл                       пригодные к продаже        не пригодн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летучивание           по более низкой цене         к продаж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питывание               (шкура и кост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ыхание                     головы и плавник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й стеклянн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у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4"/>
          <p:cNvSpPr/>
          <p:nvPr/>
        </p:nvSpPr>
        <p:spPr>
          <a:xfrm flipH="1">
            <a:off x="4952520" y="1600200"/>
            <a:ext cx="12193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6858000" y="1676520"/>
            <a:ext cx="8380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6019920" y="3505320"/>
            <a:ext cx="3124080" cy="3352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гол плавники"/>
          <p:cNvPicPr/>
          <p:nvPr/>
        </p:nvPicPr>
        <p:blipFill>
          <a:blip r:embed="rId2"/>
          <a:stretch/>
        </p:blipFill>
        <p:spPr>
          <a:xfrm>
            <a:off x="2895480" y="4343400"/>
            <a:ext cx="304812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сушка –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а из основны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чин естественной убыл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оваров, содержащих вод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аже в малых количествах(мармелад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пыл –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войственен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лкоизмельченным продукта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происходит за счет удален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астиц продукта в виде пылевичны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астиц(мук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злив –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о потери жидких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язких и мазеобразных продук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мёд, сметана, повидло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4" descr="11813_43231995"/>
          <p:cNvPicPr/>
          <p:nvPr/>
        </p:nvPicPr>
        <p:blipFill>
          <a:blip r:embed="rId1"/>
          <a:stretch/>
        </p:blipFill>
        <p:spPr>
          <a:xfrm>
            <a:off x="5029200" y="152280"/>
            <a:ext cx="3429000" cy="1600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4038480" cy="2438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3"/>
          <a:stretch/>
        </p:blipFill>
        <p:spPr>
          <a:xfrm>
            <a:off x="4724280" y="4572000"/>
            <a:ext cx="4191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летучивание 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а счёт переход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етучих веществ в окружающую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реду(небольшие потери 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лкогольной продукци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питывание 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тери жидко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фракции продукта в упаковк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халва, квашеная капуст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5486400" y="0"/>
            <a:ext cx="3276720" cy="3733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halva_235"/>
          <p:cNvPicPr/>
          <p:nvPr/>
        </p:nvPicPr>
        <p:blipFill>
          <a:blip r:embed="rId2"/>
          <a:stretch/>
        </p:blipFill>
        <p:spPr>
          <a:xfrm>
            <a:off x="5029200" y="3886200"/>
            <a:ext cx="41148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ыхание 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иологически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цесс распада энергетически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еществ и выделение энерг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плоды, яйца, мук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ой стеклянной посу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4114800" y="3505320"/>
            <a:ext cx="4724280" cy="3200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4419720" y="152280"/>
            <a:ext cx="472428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ПРИЧИНЫ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ВОЗНИКНОВЕНИЯ КАЧЕСТВЕННЫХ ПОТЕРЬ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кробиологически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ы вызывают полную или частичную порчу товаров, делают невозможным использование их по назначению или снижает надежность(брожение: спиртовое, уксусное, маслянокислое, молочнокислое; гниение; ослизнение; плесневение; бомбаж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иологически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ы вызываемые насекомыми(молью, жуками, гусеницами, тараканами, муравьями и т.д.), а так же грызунами( мыши, крысы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иохимически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им процессам подвержены «живые» продукты(плоды и овощ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изически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ы обусловлены механическими повреждениями или деформацией товара(деформация хлеба, раздавливание плодов и овощей, раскрошка кондитерских изделий, бой яиц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11T12:18:42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a0000000000010250600207f5200358026400</vt:lpwstr>
  </property>
  <property fmtid="{D5CDD505-2E9C-101B-9397-08002B2CF9AE}" pid="3" name="Version">
    <vt:r8>1</vt:r8>
  </property>
</Properties>
</file>